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72D-328D-492B-89ED-4F91BEBB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4EC3-4C7B-4DB1-9578-5C95EFB7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C8FD-FDA4-4373-8DF1-CC7CADE6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3574-00B1-44F5-90BF-ABB34268E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483C3-E3DF-4DA9-98D7-725C2F91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518E-0F02-4307-9D07-5E97DAAE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14A9D-91B2-4193-910D-B4776F8AB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511E-5EE5-4741-AA38-CB158986B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63601-101E-472A-9C77-2413E094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09F9-58C7-4A18-B161-9918BF911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53F1C-5265-41A0-8682-41466ECD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D23-4C25-423E-A8C2-C6CD4AAF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2EE3-FE3C-4BBB-850F-49B0139E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EEF8-2229-4922-BC7F-F6E9D553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F916-A8D1-4F31-A263-FB1F60C5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6EDD-297D-4817-BF51-97B372C5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9BB27-3FE4-484F-8B97-5E43E057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054-4BB8-4A8D-9C7C-FDD436E66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67C-D1F7-4CAF-99E0-52143790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6305-3A97-4F03-AA70-8F77EC3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0F8C-BD05-4EE8-B7B8-5423E1E6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1A9-17AE-4B54-8E04-A39DB2C4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5C1C-BF5A-4866-92DF-6625CD7F5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EF68-9978-4A6D-A3D4-468128D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11C2-FB67-4F6E-938A-ECC03E8F5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A3B6-A5EF-47F5-9209-5D9091DFB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South, Southeast, and East Asia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9154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y newly industrialized countries--South Korea, Taiwan, Singapor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apan is the economic leader of the are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hina is in a transition period--from a centrally planned economy to more of a tradition free market econom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gricultural advancements and technology are enabling greater food production-- “Green Revolution”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Environmental degrad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ores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shing is import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ny countries are members of the Association of Southeast Asian Nations (ASEAN) which was set up with the U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ain crops are rice and tropical crops such as banan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ltural Character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76176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eas of extremely dense and sparse popul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vere contrast between rural and urban area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erious religious conflicts--primarily between Hindus and Muslim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52280" y="3045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ep respect for ancestor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Religious diversity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Hinduism, Islam, Buddhism, Christianity, Taoism, Shinto, Confucianism are the major religion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696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ndia has a strict caste system--(similar to a class structure)  once born into a caste it is next to impossible to move out of that cast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3416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Cultural heritag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il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atik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wood and ivory carv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ideograms--unique alphab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jewe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8394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Important cities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Tokyo, Japan; Beijing, China; New Delhi,Ind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80520" y="380520"/>
            <a:ext cx="84646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Cultural landscap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Taj Mahal, Angkor Wat, Great Wall of China, floating markets, mosques,minarets, pagodas, temples and shrines, terraced rice fiel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gkor W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Picture 8" descr="Angkor Wat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hysical Characteris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ountains influence the reg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pulation settlement patterns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bility of people to mo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ngkor W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Picture 7" descr="AngkorWat2"/>
          <p:cNvPicPr/>
          <p:nvPr/>
        </p:nvPicPr>
        <p:blipFill>
          <a:blip r:embed="rId1"/>
          <a:stretch/>
        </p:blipFill>
        <p:spPr>
          <a:xfrm>
            <a:off x="304920" y="914400"/>
            <a:ext cx="8839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reat Wall of Chin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4" name="Picture 8" descr="Great Wall of China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aj Mahal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Picture 12" descr="Taj Mahal2"/>
          <p:cNvPicPr/>
          <p:nvPr/>
        </p:nvPicPr>
        <p:blipFill>
          <a:blip r:embed="rId1"/>
          <a:stretch/>
        </p:blipFill>
        <p:spPr>
          <a:xfrm>
            <a:off x="304920" y="990720"/>
            <a:ext cx="830556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aj Mahal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8" name="Picture 6" descr="Taj Mahal"/>
          <p:cNvPicPr/>
          <p:nvPr/>
        </p:nvPicPr>
        <p:blipFill>
          <a:blip r:embed="rId1"/>
          <a:stretch/>
        </p:blipFill>
        <p:spPr>
          <a:xfrm>
            <a:off x="304920" y="1371600"/>
            <a:ext cx="8839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atik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6" descr="Batik"/>
          <p:cNvPicPr/>
          <p:nvPr/>
        </p:nvPicPr>
        <p:blipFill>
          <a:blip r:embed="rId1"/>
          <a:stretch/>
        </p:blipFill>
        <p:spPr>
          <a:xfrm>
            <a:off x="762120" y="100656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Himalaya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2" name="Picture 6" descr="Himalayas"/>
          <p:cNvPicPr/>
          <p:nvPr/>
        </p:nvPicPr>
        <p:blipFill>
          <a:blip r:embed="rId1"/>
          <a:stretch/>
        </p:blipFill>
        <p:spPr>
          <a:xfrm>
            <a:off x="228600" y="1295280"/>
            <a:ext cx="8686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unt Fuj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Picture 6" descr="Himalayas2"/>
          <p:cNvPicPr/>
          <p:nvPr/>
        </p:nvPicPr>
        <p:blipFill>
          <a:blip r:embed="rId1"/>
          <a:stretch/>
        </p:blipFill>
        <p:spPr>
          <a:xfrm>
            <a:off x="0" y="998640"/>
            <a:ext cx="8915400" cy="57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ount Fuji—outside of Tokyo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6" descr="Mount Fuji2"/>
          <p:cNvPicPr/>
          <p:nvPr/>
        </p:nvPicPr>
        <p:blipFill>
          <a:blip r:embed="rId1"/>
          <a:stretch/>
        </p:blipFill>
        <p:spPr>
          <a:xfrm>
            <a:off x="304920" y="1143000"/>
            <a:ext cx="86104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Mt. Fuji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8" name="Picture 6" descr="Mount Fuji"/>
          <p:cNvPicPr/>
          <p:nvPr/>
        </p:nvPicPr>
        <p:blipFill>
          <a:blip r:embed="rId1"/>
          <a:stretch/>
        </p:blipFill>
        <p:spPr>
          <a:xfrm>
            <a:off x="304920" y="1600200"/>
            <a:ext cx="853416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imalayas—Mt. Everes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0" name="Picture 6" descr="Mt"/>
          <p:cNvPicPr/>
          <p:nvPr/>
        </p:nvPicPr>
        <p:blipFill>
          <a:blip r:embed="rId1"/>
          <a:stretch/>
        </p:blipFill>
        <p:spPr>
          <a:xfrm>
            <a:off x="685800" y="1363680"/>
            <a:ext cx="79246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990360"/>
            <a:ext cx="8007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ountai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imalay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stern and Eastern Gha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1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unt Fuji-Jap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Gobi Desert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6" descr="Gobi Desert"/>
          <p:cNvPicPr/>
          <p:nvPr/>
        </p:nvPicPr>
        <p:blipFill>
          <a:blip r:embed="rId1"/>
          <a:stretch/>
        </p:blipFill>
        <p:spPr>
          <a:xfrm>
            <a:off x="152280" y="581040"/>
            <a:ext cx="876312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uddh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4" name="Picture 5" descr="Buddha"/>
          <p:cNvPicPr/>
          <p:nvPr/>
        </p:nvPicPr>
        <p:blipFill>
          <a:blip r:embed="rId1"/>
          <a:stretch/>
        </p:blipFill>
        <p:spPr>
          <a:xfrm>
            <a:off x="304920" y="1120680"/>
            <a:ext cx="8686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Buddha in New Delhi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Picture 6" descr="Buddha in New Delhi"/>
          <p:cNvPicPr/>
          <p:nvPr/>
        </p:nvPicPr>
        <p:blipFill>
          <a:blip r:embed="rId1"/>
          <a:stretch/>
        </p:blipFill>
        <p:spPr>
          <a:xfrm>
            <a:off x="1905120" y="1905120"/>
            <a:ext cx="5871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hinto Shrin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7" descr="Shinto shrine"/>
          <p:cNvPicPr/>
          <p:nvPr/>
        </p:nvPicPr>
        <p:blipFill>
          <a:blip r:embed="rId1"/>
          <a:stretch/>
        </p:blipFill>
        <p:spPr>
          <a:xfrm>
            <a:off x="228600" y="1154160"/>
            <a:ext cx="86868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emp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0" name="Picture 5" descr="temp"/>
          <p:cNvPicPr/>
          <p:nvPr/>
        </p:nvPicPr>
        <p:blipFill>
          <a:blip r:embed="rId1"/>
          <a:stretch/>
        </p:blipFill>
        <p:spPr>
          <a:xfrm>
            <a:off x="380880" y="838080"/>
            <a:ext cx="8458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agod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6" descr="j0345961"/>
          <p:cNvPicPr/>
          <p:nvPr/>
        </p:nvPicPr>
        <p:blipFill>
          <a:blip r:embed="rId1"/>
          <a:stretch/>
        </p:blipFill>
        <p:spPr>
          <a:xfrm>
            <a:off x="304920" y="1143000"/>
            <a:ext cx="8381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Pagoda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4" descr="2zg3qxbh[1]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573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0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Temple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4" descr="temp2"/>
          <p:cNvPicPr/>
          <p:nvPr/>
        </p:nvPicPr>
        <p:blipFill>
          <a:blip r:embed="rId1"/>
          <a:stretch/>
        </p:blipFill>
        <p:spPr>
          <a:xfrm>
            <a:off x="304920" y="990720"/>
            <a:ext cx="83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Varied climate region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ranging from tropical wet to humid continent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any natural hazard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monsoons, typhoons, volcanoes, and earthquak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228240"/>
            <a:ext cx="80010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Monso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a seasonal shift in the prevailing winds that influences large climate reg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Typho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a destructive tropical storm occurring in the western Pacific Ocean or the China Sea, similar to a hurric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9917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Influence of water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--(rivers, seas, and ocean currents) on agriculture, trade, and transpor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8455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Important bodies of water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-Arabian Sea, Indian Ocean, Bay of Bengal, Ganges River, Indus River, Brahmaputra River, Pacific Ocean, Yangtze River (Chaing Jiang), Mekong River, Yellow River (Huang He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ea have abundant arable lan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reas of loes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lateau of Tibet hard to live 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obi Desert--second largest in the worl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nomic Characteristics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Varied economies in the region ranging from subsistence/commercial agriculture to high-tech industrial manufactur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ctive participation in global marke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21:39:17Z</dcterms:created>
  <dc:creator>Newport News</dc:creator>
  <dc:description/>
  <dc:language>en-US</dc:language>
  <cp:lastModifiedBy>WENDY</cp:lastModifiedBy>
  <dcterms:modified xsi:type="dcterms:W3CDTF">2011-04-06T01:31:19Z</dcterms:modified>
  <cp:revision>12</cp:revision>
  <dc:subject/>
  <dc:title>South, Southeast, and East Asia</dc:title>
</cp:coreProperties>
</file>